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ED12-0155-49D0-B26D-6575B1FFF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D6E-0CE2-41B4-B266-58362D223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5D0-BD7C-4EF9-8CA6-1A7811B3D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66DE-0F8A-472C-99F1-F19829242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69D-08ED-45AD-B77D-36CA247F9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5C5A-FF0E-480A-8809-DA716C6D2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F6CA-B484-4BEC-9BE9-0CB55BCFD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EF4-762B-49AE-B237-34606D64B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AFF-B9BA-4160-BFA2-F70C62A30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6F07-D2AE-47DC-ABAE-1399FA7DC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4F8B-12FB-4078-92AD-AE346FB37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3F2E-78DF-4DEF-A07B-950DD6245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BF7-77C2-4AFB-9788-E6989BD12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B46C-6AE5-4085-99B5-22AA3223A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AC5-9B81-4308-A844-A8312BE0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0F9-BB65-4CA3-989B-84677887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8F3-67C0-4655-86D0-769DF22A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7C5-9A97-4C1D-80E7-AD69C8CE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6E4-1095-4DEB-B209-7E5646CE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8FB-50F7-4B66-8762-0764D75D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F89-37D6-4756-AF4E-4F8BFAC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160-A012-465A-B48E-8569EE4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492-264C-4F21-9598-AABBACB7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703-D04B-43FB-B131-C2D7F3BD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349-0B5A-4E3D-A643-5A1F204A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65D-BAC9-4DF8-8083-6F524BC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3D30-9A75-47AF-A819-F12CA7A58B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965-0E26-49D6-81BB-3400EBB9D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5 Inequalitie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dominos2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7053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2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22"/>
            <p:cNvSpPr/>
            <p:nvPr/>
          </p:nvSpPr>
          <p:spPr>
            <a:xfrm>
              <a:off x="3505320" y="24382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3"/>
            <p:cNvSpPr/>
            <p:nvPr/>
          </p:nvSpPr>
          <p:spPr>
            <a:xfrm>
              <a:off x="1371600" y="533520"/>
              <a:ext cx="6781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Can you figure out the puzzle below??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4" descr="question_mark2.jpg"/>
            <p:cNvPicPr/>
            <p:nvPr/>
          </p:nvPicPr>
          <p:blipFill>
            <a:blip r:embed="rId2"/>
            <a:stretch/>
          </p:blipFill>
          <p:spPr>
            <a:xfrm>
              <a:off x="304920" y="1219320"/>
              <a:ext cx="2904840" cy="35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5" descr="question_mark2.jpg"/>
            <p:cNvPicPr/>
            <p:nvPr/>
          </p:nvPicPr>
          <p:blipFill>
            <a:blip r:embed="rId3"/>
            <a:stretch/>
          </p:blipFill>
          <p:spPr>
            <a:xfrm>
              <a:off x="5715000" y="1295280"/>
              <a:ext cx="2905200" cy="35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20"/>
            <p:cNvSpPr/>
            <p:nvPr/>
          </p:nvSpPr>
          <p:spPr>
            <a:xfrm>
              <a:off x="3276720" y="1752480"/>
              <a:ext cx="2438280" cy="198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34"/>
            <p:cNvSpPr/>
            <p:nvPr/>
          </p:nvSpPr>
          <p:spPr>
            <a:xfrm>
              <a:off x="3962520" y="2057400"/>
              <a:ext cx="1066680" cy="1219320"/>
            </a:xfrm>
            <a:prstGeom prst="ellipse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16"/>
          <p:cNvSpPr/>
          <p:nvPr/>
        </p:nvSpPr>
        <p:spPr>
          <a:xfrm>
            <a:off x="2286000" y="533412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m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4038480" cy="22179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914400"/>
            <a:ext cx="8381880" cy="19051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 5-12: Triangle Inequality Theor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um of the lengths of any two sides of a triangle is greater than the length of the thir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762120" y="2233440"/>
                <a:ext cx="20955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X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3379680" y="2233440"/>
                <a:ext cx="20415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Y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5943600" y="2209680"/>
                <a:ext cx="206676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X</m:t>
                    </m:r>
                    <m:r>
                      <m:t xml:space="preserve">+</m:t>
                    </m:r>
                    <m:r>
                      <m:t xml:space="preserve">XY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Z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04920" y="68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an a triangle have sides with the given lengths?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914400" y="1295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7 ft, 3 ft, 8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914400" y="2362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10 cm, 6 cm, 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228600" y="37418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 triangle has sides of lengths 8 cm and 10 cm. Describe the lengths possible for the thir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0" y="36655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6" descr="eggs2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6242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5 Inequalities in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0" y="106668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: p.292 #1-25 (x3), 32, 33,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grpSp>
          <p:nvGrpSpPr>
            <p:cNvPr id="147" name="Group 11"/>
            <p:cNvGrpSpPr/>
            <p:nvPr/>
          </p:nvGrpSpPr>
          <p:grpSpPr>
            <a:xfrm>
              <a:off x="0" y="76320"/>
              <a:ext cx="9144000" cy="6858000"/>
              <a:chOff x="0" y="76320"/>
              <a:chExt cx="9144000" cy="6858000"/>
            </a:xfrm>
          </p:grpSpPr>
          <p:sp>
            <p:nvSpPr>
              <p:cNvPr id="148" name="Rectangle 21"/>
              <p:cNvSpPr/>
              <p:nvPr/>
            </p:nvSpPr>
            <p:spPr>
              <a:xfrm>
                <a:off x="0" y="76320"/>
                <a:ext cx="9144000" cy="685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22"/>
              <p:cNvSpPr/>
              <p:nvPr/>
            </p:nvSpPr>
            <p:spPr>
              <a:xfrm>
                <a:off x="2286000" y="2057400"/>
                <a:ext cx="44197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SG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GE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GEG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GG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23"/>
              <p:cNvSpPr/>
              <p:nvPr/>
            </p:nvSpPr>
            <p:spPr>
              <a:xfrm>
                <a:off x="1371600" y="609480"/>
                <a:ext cx="67820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Arial"/>
                  </a:rPr>
                  <a:t>Can you figure out the puzzle below???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Picture 24" descr="question_mark2.jpg"/>
              <p:cNvPicPr/>
              <p:nvPr/>
            </p:nvPicPr>
            <p:blipFill>
              <a:blip r:embed="rId2"/>
              <a:stretch/>
            </p:blipFill>
            <p:spPr>
              <a:xfrm>
                <a:off x="304560" y="1295280"/>
                <a:ext cx="2904480" cy="353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25" descr="question_mark2.jpg"/>
              <p:cNvPicPr/>
              <p:nvPr/>
            </p:nvPicPr>
            <p:blipFill>
              <a:blip r:embed="rId3"/>
              <a:stretch/>
            </p:blipFill>
            <p:spPr>
              <a:xfrm>
                <a:off x="5715000" y="1371600"/>
                <a:ext cx="2904480" cy="353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Rectangle 20"/>
            <p:cNvSpPr/>
            <p:nvPr/>
          </p:nvSpPr>
          <p:spPr>
            <a:xfrm>
              <a:off x="3276720" y="1828800"/>
              <a:ext cx="2438280" cy="198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16"/>
          <p:cNvSpPr/>
          <p:nvPr/>
        </p:nvSpPr>
        <p:spPr>
          <a:xfrm>
            <a:off x="2286000" y="533412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rambled Eg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Property of 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57400" y="4876920"/>
            <a:ext cx="5029200" cy="9903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Property of Inequ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3886200" y="914400"/>
            <a:ext cx="12952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2133720" y="1600200"/>
            <a:ext cx="12952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5715000" y="1600200"/>
            <a:ext cx="12952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3886200" y="914400"/>
            <a:ext cx="1295280" cy="1981080"/>
          </a:xfrm>
          <a:prstGeom prst="can">
            <a:avLst>
              <a:gd name="adj" fmla="val 25000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4267080" y="175248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2133720" y="2362320"/>
            <a:ext cx="1295280" cy="1218960"/>
          </a:xfrm>
          <a:prstGeom prst="can">
            <a:avLst>
              <a:gd name="adj" fmla="val 25000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514600" y="266688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5715000" y="2514600"/>
            <a:ext cx="1295280" cy="1066680"/>
          </a:xfrm>
          <a:prstGeom prst="can">
            <a:avLst>
              <a:gd name="adj" fmla="val 25000"/>
            </a:avLst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6095880" y="274320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arison Property of 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37"/>
          <p:cNvSpPr/>
          <p:nvPr/>
        </p:nvSpPr>
        <p:spPr>
          <a:xfrm>
            <a:off x="1676520" y="297180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8"/>
          <p:cNvSpPr/>
          <p:nvPr/>
        </p:nvSpPr>
        <p:spPr>
          <a:xfrm flipH="1">
            <a:off x="4419720" y="2438280"/>
            <a:ext cx="1440" cy="342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1828800" y="2590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4572000" y="25909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5"/>
          <p:cNvGrpSpPr/>
          <p:nvPr/>
        </p:nvGrpSpPr>
        <p:grpSpPr>
          <a:xfrm>
            <a:off x="1447920" y="3048120"/>
            <a:ext cx="3962160" cy="2606760"/>
            <a:chOff x="1447920" y="3048120"/>
            <a:chExt cx="3962160" cy="2606760"/>
          </a:xfrm>
        </p:grpSpPr>
        <p:sp>
          <p:nvSpPr>
            <p:cNvPr id="77" name="TextBox 43"/>
            <p:cNvSpPr/>
            <p:nvPr/>
          </p:nvSpPr>
          <p:spPr>
            <a:xfrm>
              <a:off x="1447920" y="3048120"/>
              <a:ext cx="8380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44"/>
            <p:cNvSpPr/>
            <p:nvPr/>
          </p:nvSpPr>
          <p:spPr>
            <a:xfrm>
              <a:off x="4572000" y="3048120"/>
              <a:ext cx="8380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457200" y="1353960"/>
            <a:ext cx="388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81080" y="3124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1905120" y="3581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+ c &gt; b +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905120" y="4114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+ c &gt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2438280" y="4572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2438280" y="5105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533520" y="762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304920" y="4191120"/>
            <a:ext cx="8686800" cy="1981080"/>
            <a:chOff x="304920" y="4191120"/>
            <a:chExt cx="8686800" cy="1981080"/>
          </a:xfrm>
        </p:grpSpPr>
        <p:sp>
          <p:nvSpPr>
            <p:cNvPr id="88" name="Rectangle 2"/>
            <p:cNvSpPr/>
            <p:nvPr/>
          </p:nvSpPr>
          <p:spPr>
            <a:xfrm>
              <a:off x="304920" y="4191120"/>
              <a:ext cx="8686800" cy="19810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ollary to the Triangle Exterior Angle Theorem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he measure of an exterior angle of a triangle is greater than the measure of each of its remote interior angl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Object 4"/>
                <p:cNvSpPr txBox="1"/>
                <p:nvPr/>
              </p:nvSpPr>
              <p:spPr>
                <a:xfrm>
                  <a:off x="2540160" y="5481360"/>
                  <a:ext cx="386100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and 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33530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2"/>
          <p:cNvGrpSpPr/>
          <p:nvPr/>
        </p:nvGrpSpPr>
        <p:grpSpPr>
          <a:xfrm>
            <a:off x="1219320" y="2895480"/>
            <a:ext cx="7010280" cy="459720"/>
            <a:chOff x="1219320" y="2895480"/>
            <a:chExt cx="7010280" cy="459720"/>
          </a:xfrm>
        </p:grpSpPr>
        <mc:AlternateContent>
          <mc:Choice xmlns:a14="http://schemas.microsoft.com/office/drawing/2010/main" Requires="a14">
            <p:sp>
              <p:nvSpPr>
                <p:cNvPr id="92" name="Object 2"/>
                <p:cNvSpPr txBox="1"/>
                <p:nvPr/>
              </p:nvSpPr>
              <p:spPr>
                <a:xfrm>
                  <a:off x="1219320" y="3002040"/>
                  <a:ext cx="2619360" cy="2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Ð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mÐ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mÐ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3" name="Group 11"/>
            <p:cNvGrpSpPr/>
            <p:nvPr/>
          </p:nvGrpSpPr>
          <p:grpSpPr>
            <a:xfrm>
              <a:off x="3886200" y="2895480"/>
              <a:ext cx="4343400" cy="459720"/>
              <a:chOff x="3886200" y="2895480"/>
              <a:chExt cx="4343400" cy="459720"/>
            </a:xfrm>
          </p:grpSpPr>
          <p:sp>
            <p:nvSpPr>
              <p:cNvPr id="94" name="TextBox 9"/>
              <p:cNvSpPr/>
              <p:nvPr/>
            </p:nvSpPr>
            <p:spPr>
              <a:xfrm>
                <a:off x="3886200" y="2895480"/>
                <a:ext cx="434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y the Δ Exterior     Theorem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Object 3"/>
                  <p:cNvSpPr txBox="1"/>
                  <p:nvPr/>
                </p:nvSpPr>
                <p:spPr>
                  <a:xfrm>
                    <a:off x="6095880" y="3002040"/>
                    <a:ext cx="303120" cy="27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96" name="TextBox 13"/>
          <p:cNvSpPr/>
          <p:nvPr/>
        </p:nvSpPr>
        <p:spPr>
          <a:xfrm>
            <a:off x="76320" y="3394080"/>
            <a:ext cx="899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apply the comparison prop of inequality, what do we know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5105520" y="1743120"/>
            <a:ext cx="3733560" cy="275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5181480" y="1260360"/>
                <a:ext cx="22100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 Box 9"/>
          <p:cNvSpPr/>
          <p:nvPr/>
        </p:nvSpPr>
        <p:spPr>
          <a:xfrm>
            <a:off x="152280" y="129528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iven the figure below, explain why                           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609480" y="24382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895480" y="1752480"/>
            <a:ext cx="0" cy="381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762120" y="3684600"/>
                <a:ext cx="1869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762120" y="2590920"/>
                <a:ext cx="1869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685800" y="4800600"/>
                <a:ext cx="1932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m</m:t>
                    </m:r>
                    <m:r>
                      <m:t xml:space="preserve">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Box 39"/>
          <p:cNvSpPr/>
          <p:nvPr/>
        </p:nvSpPr>
        <p:spPr>
          <a:xfrm>
            <a:off x="914400" y="1905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0"/>
          <p:cNvSpPr/>
          <p:nvPr/>
        </p:nvSpPr>
        <p:spPr>
          <a:xfrm>
            <a:off x="3200400" y="190512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04920" y="2590920"/>
            <a:ext cx="1066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2971800" y="2610000"/>
            <a:ext cx="1066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33520" y="762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962520" cy="2176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304920" y="3124080"/>
            <a:ext cx="8381880" cy="1600200"/>
            <a:chOff x="304920" y="3124080"/>
            <a:chExt cx="8381880" cy="1600200"/>
          </a:xfrm>
        </p:grpSpPr>
        <p:sp>
          <p:nvSpPr>
            <p:cNvPr id="114" name="Rectangle 2"/>
            <p:cNvSpPr/>
            <p:nvPr/>
          </p:nvSpPr>
          <p:spPr>
            <a:xfrm>
              <a:off x="304920" y="3124080"/>
              <a:ext cx="838188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em 5-10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wo sides of a triangle are not congruent, then the larger angle lies opposite the longer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2"/>
                <p:cNvSpPr txBox="1"/>
                <p:nvPr/>
              </p:nvSpPr>
              <p:spPr>
                <a:xfrm>
                  <a:off x="2514600" y="4038480"/>
                  <a:ext cx="42480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r>
                        <m:t xml:space="preserve">XZ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  <m:r>
                        <m:rPr>
                          <m:lit/>
                          <m:nor/>
                        </m:rPr>
                        <m:t xml:space="preserve">, then 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Y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124440" cy="255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4"/>
          <p:cNvSpPr/>
          <p:nvPr/>
        </p:nvSpPr>
        <p:spPr>
          <a:xfrm>
            <a:off x="304920" y="838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 the angles of the following figure in order from smallest to lar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2590920" y="762120"/>
            <a:ext cx="3581280" cy="23889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380880" y="3048120"/>
            <a:ext cx="8382240" cy="1600200"/>
            <a:chOff x="380880" y="3048120"/>
            <a:chExt cx="8382240" cy="1600200"/>
          </a:xfrm>
        </p:grpSpPr>
        <p:sp>
          <p:nvSpPr>
            <p:cNvPr id="122" name="Rectangle 2"/>
            <p:cNvSpPr/>
            <p:nvPr/>
          </p:nvSpPr>
          <p:spPr>
            <a:xfrm>
              <a:off x="380880" y="3048120"/>
              <a:ext cx="838224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orem 5-11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wo angles of a triangle are not congruent, then the longer side lies opposite the larger angl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2"/>
                <p:cNvSpPr txBox="1"/>
                <p:nvPr/>
              </p:nvSpPr>
              <p:spPr>
                <a:xfrm>
                  <a:off x="2228760" y="3980160"/>
                  <a:ext cx="43308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m</m:t>
                      </m:r>
                      <m:r>
                        <m:t xml:space="preserve">∠</m:t>
                      </m:r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m</m:t>
                      </m:r>
                      <m:r>
                        <m:t xml:space="preserve">∠</m:t>
                      </m:r>
                      <m:r>
                        <m:t xml:space="preserve">B</m:t>
                      </m:r>
                      <m:r>
                        <m:rPr>
                          <m:lit/>
                          <m:nor/>
                        </m:rPr>
                        <m:t xml:space="preserve">, then </m:t>
                      </m:r>
                      <m:r>
                        <m:rPr>
                          <m:lit/>
                          <m:nor/>
                        </m:rPr>
                        <m:t xml:space="preserve">BC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s of a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6172200" y="744480"/>
            <a:ext cx="2438280" cy="23036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4"/>
          <p:cNvSpPr/>
          <p:nvPr/>
        </p:nvSpPr>
        <p:spPr>
          <a:xfrm>
            <a:off x="304920" y="8380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 the sides of the following triangle in order from shortest to long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5334120" y="3581280"/>
            <a:ext cx="3429000" cy="26146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which segment is shortest in the following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42:51Z</dcterms:created>
  <dc:creator>Stephanie Ruth Rentel</dc:creator>
  <dc:description/>
  <dc:language>en-US</dc:language>
  <cp:lastModifiedBy>wsloop</cp:lastModifiedBy>
  <dcterms:modified xsi:type="dcterms:W3CDTF">2010-09-29T19:29:52Z</dcterms:modified>
  <cp:revision>62</cp:revision>
  <dc:subject/>
  <dc:title>Slide 1</dc:title>
</cp:coreProperties>
</file>